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4171-3195-48B7-A6F2-8D8C3112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64E0-F9BF-4DD9-852F-41DEE1A3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A04-7B65-4382-BDEB-9C064444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03E-D600-4876-9370-D232F721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B18-5B94-442E-B459-EF3A5D61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F31-5E92-437F-84FA-5E9CC03E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FAD-4DE2-4AA8-8C70-0A3B36BA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B48-0FE1-4566-8E43-BD6EDA6B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217-22C5-4F47-A64B-34D87671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BE2-623F-492A-BB04-C0731472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93B-1DDB-45B0-B26B-B4858372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0EE-A703-4DB4-9E01-C3A178C1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B486-CD79-4497-9B0B-EB5EF1A40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to your wikispace and sign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324480" y="1447920"/>
            <a:ext cx="533520" cy="380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5867280" y="1828440"/>
            <a:ext cx="457200" cy="304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the username and password.  Click ‘Sign In.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2367" r="3255" b="7692"/>
          <a:stretch/>
        </p:blipFill>
        <p:spPr>
          <a:xfrm>
            <a:off x="152280" y="609480"/>
            <a:ext cx="8839440" cy="6162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0200" y="2209680"/>
            <a:ext cx="2743200" cy="1143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343400" y="2286000"/>
            <a:ext cx="99072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started editing click on ‘Edit This Pag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0120" y="704880"/>
            <a:ext cx="8204400" cy="6153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52480" y="1676520"/>
            <a:ext cx="1143000" cy="380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895480" y="1980720"/>
            <a:ext cx="60984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now enter text like you would in any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1640" y="723960"/>
            <a:ext cx="8178840" cy="61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ing Tool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15705" t="17018" r="3285" b="70866"/>
          <a:stretch/>
        </p:blipFill>
        <p:spPr>
          <a:xfrm>
            <a:off x="0" y="609480"/>
            <a:ext cx="9144000" cy="1025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15236" t="19532" r="3743" b="53130"/>
          <a:stretch/>
        </p:blipFill>
        <p:spPr>
          <a:xfrm>
            <a:off x="0" y="4543560"/>
            <a:ext cx="9144000" cy="2314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38862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size of the text by using the drop down me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1337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d, Italicize, Under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22096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numbered or bulleted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990720"/>
            <a:ext cx="114300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85800" y="167652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90720"/>
            <a:ext cx="152388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971440" y="1600200"/>
            <a:ext cx="22860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4724280"/>
            <a:ext cx="1676520" cy="2133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971800" y="57150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990720"/>
            <a:ext cx="137160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2057400"/>
            <a:ext cx="23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sure to click ‘Save’ to save the changes to your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7543800" y="1676520"/>
            <a:ext cx="30492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sert a link on your page click ‘Insert Link’ button (it looks like a globe with a papercli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15705" t="17018" r="3285" b="70866"/>
          <a:stretch/>
        </p:blipFill>
        <p:spPr>
          <a:xfrm>
            <a:off x="0" y="1066680"/>
            <a:ext cx="9144000" cy="102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17846" t="21531" r="16716" b="24080"/>
          <a:stretch/>
        </p:blipFill>
        <p:spPr>
          <a:xfrm>
            <a:off x="3276720" y="2438280"/>
            <a:ext cx="5867280" cy="3657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V="1">
            <a:off x="8153280" y="3352680"/>
            <a:ext cx="0" cy="479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2971800"/>
            <a:ext cx="10666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1066680"/>
            <a:ext cx="381240" cy="381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1447920"/>
            <a:ext cx="53352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495288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4495680"/>
            <a:ext cx="39625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34290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3124080"/>
            <a:ext cx="266724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286000"/>
            <a:ext cx="289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nter the text of the link (for example, “Click here” or the name of the webp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440676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lick on the button for ‘External Link.’ Paste  in the link of the web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3809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lick ‘OK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reate an internal link (i.e. another page/section of your wiki, click on the Insert Link button  (it looks like a globe with a paperclip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15705" t="17018" r="3285" b="70866"/>
          <a:stretch/>
        </p:blipFill>
        <p:spPr>
          <a:xfrm>
            <a:off x="0" y="1066680"/>
            <a:ext cx="9144000" cy="1025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17846" t="21531" r="16716" b="24080"/>
          <a:stretch/>
        </p:blipFill>
        <p:spPr>
          <a:xfrm>
            <a:off x="3276720" y="2438280"/>
            <a:ext cx="5867280" cy="3657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V="1">
            <a:off x="8153280" y="3352680"/>
            <a:ext cx="0" cy="479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43800" y="2971800"/>
            <a:ext cx="10666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990720"/>
            <a:ext cx="38088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1447920"/>
            <a:ext cx="53352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495288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4495680"/>
            <a:ext cx="39625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34290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3124080"/>
            <a:ext cx="266724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36232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nter the text of the link (for example, “Resource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4191120"/>
            <a:ext cx="2438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lick on the button for ‘Wiki Link.’  Select “Enter a Page Name” and type the name of your new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96080" y="3809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lick ‘OK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15705" t="17018" r="3285" b="70866"/>
          <a:stretch/>
        </p:blipFill>
        <p:spPr>
          <a:xfrm>
            <a:off x="0" y="1143000"/>
            <a:ext cx="9144000" cy="1025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dd a link to a document to your page (for example, an audio file) click on the Insert File button (it looks like a picture of a tre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1143000"/>
            <a:ext cx="15264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1600200"/>
            <a:ext cx="53316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52120" t="15256" r="3392" b="8474"/>
          <a:stretch/>
        </p:blipFill>
        <p:spPr>
          <a:xfrm>
            <a:off x="5257800" y="2133720"/>
            <a:ext cx="3081240" cy="3962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638680" y="4724280"/>
            <a:ext cx="2819520" cy="838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048120"/>
            <a:ext cx="46483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‘Browse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you locate the file you want to add, click ‘Upload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file has uploaded double click on it to add it to the page (the new file will be highlight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156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If you are adding something that is not your original work please check what the copyright permissions 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4:13:13Z</dcterms:created>
  <dc:creator>Forman School</dc:creator>
  <dc:description/>
  <dc:language>en-US</dc:language>
  <cp:lastModifiedBy>Forman School</cp:lastModifiedBy>
  <dcterms:modified xsi:type="dcterms:W3CDTF">2009-03-30T21:32:43Z</dcterms:modified>
  <cp:revision>13</cp:revision>
  <dc:subject/>
  <dc:title>Setting up your homework page</dc:title>
</cp:coreProperties>
</file>